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29B-2769-415A-9A88-3E7A9AE3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AD9-3EAD-499C-86C1-D732095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1E3-B61D-4CE4-86BC-D480E24C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8E2-B619-45E0-A899-EB461504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0DE-4E77-43DE-9928-71914B4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D8F-E275-4458-97FE-762E7F46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166-F68B-4FBC-B421-C8F16D9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7B1-5DFA-4A30-8CAC-39A3515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0F7-6425-4F9B-8987-B499C54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C80-F502-433A-91FB-20CD89AC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6DF-5FBD-439F-896E-9B8BE54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F71-6D5F-49FC-B209-48D804C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3BD-6A6E-4BAD-A7C3-F125D4AF570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7:51:53Z</dcterms:created>
  <dc:creator>Grupo Editorial</dc:creator>
  <dc:description/>
  <dc:language>en-US</dc:language>
  <cp:lastModifiedBy>TORRES</cp:lastModifiedBy>
  <dcterms:modified xsi:type="dcterms:W3CDTF">2010-12-18T22:28:29Z</dcterms:modified>
  <cp:revision>1</cp:revision>
  <dc:subject/>
  <dc:title>Sin título de diapositiva</dc:title>
</cp:coreProperties>
</file>